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3A4-DACA-48E3-A200-F652DA37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FDB-C836-487F-AD4A-808D0676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ECD-A709-47AC-97E5-448C1FC9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FA4-DBFA-4800-A690-559E239C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339-67B3-4E6A-A828-0BC5732C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149-6C93-4520-80C8-0658FE3E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3F0-351E-48EE-AE1E-E7E61FE3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287-0AA4-4626-807B-7EB0E56C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1E5-417F-4E3E-BDE8-233CC6B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953-D5AD-40A2-A772-EC5EA89D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C3C-62E3-459D-8475-7B2DBB9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39B-3968-444C-B2AD-1724570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CCB-0180-469B-B061-5B7A6BEDA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3 Fluency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heck my fluency with addition &amp; sub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view strategies for ad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view strategies for sub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3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nterpret and apply comparison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comparison word problems with misleading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word problems with unknown partners and express relationships as equations and inequaliti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word problems with unknown star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comparis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comparison problems with misleading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3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and solve a variety of multi-digit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, and represe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- Unit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lines of symmet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congruent halves of figures and congruent figu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4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abel and name figures using let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e relationship between the diagonals of quadrilaterals and the triangles they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what an angle is and name angles by siz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d name polyg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e relationship between quadrilaterals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4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angle measures by comparing them to angles with known meas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over that the sum of the measures of the angles in any triangle is 180 degre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e measures of two angles in a triangle, I can find the measure of the third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- 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to estimate sums and differences and check calcu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- Unit 5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to estimate sums and differences and check calculations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rounding to estimate sums and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quant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and order whol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the values of expre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view the values of a penny, nickel, dime, and quar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termine and compare the values of collections of coins and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represent amounts of  money in various w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counting out the exact amount of money to make a purch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ounting 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rategy to make change from purcha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ound money amounts to the nearest dime or dol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estimates in real-world situations involving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nterpret information in tab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write and solve problems based on tables with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information in tables to create and solve word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mplete tab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reate a simple t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practice completing tables in which there is a mathematical relationship between the colum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word problems with extra or hidden inform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dentify word problems with not enough information to solve and identify the information need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write word problems with not enough inform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word problems requiring two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multi-step word problems requiring two or more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write and answer questions using horizontal and vertical bar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bar graphs to represent data from t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he mode and range of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analyze data in horizontal and vertical bar graph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information in a table to create horizontal and vertical bar graph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nstruct and analyze frequency tables and line plo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match a set of data with a graph and describe the important featur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-Uni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nd interpret place value draw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hat 1000 is 10 hundr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value of a dig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drawings to represent money am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and ungroup multi-digit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word problems that require an understanding of pl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- Unit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and describe slides, flips and tu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slides, flips, and turns in geometric patterns and can create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repeating number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repeating geometric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number pattern that grows or shrin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geometric pattern that grows or shrin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- Unit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5s count-bys and multiplic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learn important multiplication vocabul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ultiplication to represent repeated groups situ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drawings to help solve word problems involving repeated group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ultiplication to represent array situ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drawings to help solve word problems involving array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that multiplication is communicati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7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late division to multiplic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division word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2’s count-bys and multiplic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nterpret a pictograp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10s count-bys, multiplication and divis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9s multiplications and divis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a strategy for multiplying and dividing with 9s quickl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240" y="151920"/>
            <a:ext cx="8534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2s, 5s, 9s, and 10s multiplications and divi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ore patterns in 3s count-bys, multiplications and divi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strategy for finding count-bys and products for multipliers greater than 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nderstand the area model for multi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shortcut for solving a multiplication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and identify multiplication and division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write and solve multiplication and division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patterns in 4s multiplication and count-b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 strategy for finding 4s count-bys and solving problems involving 4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understand the relationships in the fast arr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velop multiplication and division strateg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look for patterns in 1s multiplication, count-by, and div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multiplications and divisions with zero and learn that divisions by zero are not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nvestigat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roperties of Addition and Multipli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with 2s, 3s, 4s, 5s, 9s, and 10s multiplication and div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multiplication and division for 0s, 1s, 2s, 3s, 4s, 5s, 9s, and 10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multiplication and division word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Unit 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numbers from scrambled place value n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place value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and apply multi-digit addition metho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proof drawings to show that addition methods are corr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pply and discuss multi-digit addition metho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why it is necessary to align places before ad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cide when and how to group in multi-digit add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add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add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explain errors in addition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methods  of subtracting multi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a common subtraction err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5228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with zeros in the top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ubtraction problems involving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using two different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ain when and how to ungroup when subtracting multi-digit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late grouping in addition and ungrouping in subtr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and discuss subtraction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actice and discuss addition and subtraction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,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- 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engths to the nearest centi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line segments of given l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perimeters of triangles and quadrilat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and find examples to illustrate the terms,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line, line segment, parallel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pendi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opposite and adjacent sides of quadrilat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2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evelop definitions f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parallelogram,  rectangle, square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homb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the relationships among parallelograms,  rectangles, squares, and rhombu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the perimeters of rectangles and  squares without measuring all four s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raw parallelograms and rectang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observe the relationship between the dimensions of a rectangle and its perimet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view the features of quadrilaterals, parallelograms, rectangles and squar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escribe the relationships among various types of quadrilater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rade 3- Unit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a variety of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view the relationships between addition and subtr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a variety of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view the relationships between addition and subtr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word problems with unknown star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convert situation equations to solution equ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interpret and use comparison language such as the word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solve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comparison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6:57:22Z</dcterms:created>
  <dc:creator>MCPS</dc:creator>
  <dc:description/>
  <dc:language>en-US</dc:language>
  <cp:lastModifiedBy>an MCPS user</cp:lastModifiedBy>
  <dcterms:modified xsi:type="dcterms:W3CDTF">2010-11-18T13:36:16Z</dcterms:modified>
  <cp:revision>136</cp:revision>
  <dc:subject/>
  <dc:title>Slide 1</dc:title>
</cp:coreProperties>
</file>